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24.jpeg" ContentType="image/jpeg"/>
  <Override PartName="/ppt/media/image15.png" ContentType="image/png"/>
  <Override PartName="/ppt/media/image14.jpeg" ContentType="image/jpeg"/>
  <Override PartName="/ppt/media/image1.png" ContentType="image/png"/>
  <Override PartName="/ppt/media/image2.png" ContentType="image/png"/>
  <Override PartName="/ppt/media/image25.jpeg" ContentType="image/jpe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FD03-0060-4B23-A131-EF7E35042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2DCE-A8F9-4792-8DD0-7B7F806F4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122B-6EEC-40E8-8658-B65CEE5FA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9959-782B-446D-AD73-533B7B7D5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28BB5-0193-4CC6-8A59-17487575A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D8F7D-F873-4F55-8451-9D19359EE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4AC69-F388-4AF3-8A2D-CF54DE264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DE424-5397-4B2D-96E0-E9F1AB831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6DFDF-D7AD-4B5C-9A10-85336DFF1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EF841-7766-4C86-9232-EB124D7EE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90442-4680-4DB2-8B0D-7B553C2B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E9E9-B655-4051-BDDE-EB75299BF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E04C2-F2BD-43AD-B25A-957FAAA62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25E41-A4C8-45B9-8F7F-6B7393E4A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08859-02F9-4D38-B2A4-70A9FD0AC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D6F79-CF80-416F-ABA2-9066702E9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8455D-E58A-40E4-8DA8-38CE7295C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E0305-C7CE-4487-A5B5-D0F1CB852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89AF5-0C3C-4E16-9197-DD1314838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0BF69-4CAA-4BDD-BE20-457BA494E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22B22-C0B2-4B82-A2E6-12B5F8649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1F497-661D-4984-965A-9CB6430A7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66A5-61E9-4D04-AFF6-D65B73DEA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28FF7-87DE-446B-B21B-711C3A21F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E053E-31FF-4029-AE1F-1056C289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B77A8-82BD-47BF-827D-35D722B6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2A71B-7362-4F68-8A2A-1E7B46B64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5F6E9-6354-490D-B0FA-DACC19A88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6BD4F-AFE4-4520-88D8-BB2F6793E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D0F73-BFAC-4DF9-B27F-2C448495E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7E92-4308-4E44-AF0E-4AD72511D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C6EC-FAC9-4F2E-AB68-B648A5662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7379-1A65-42A2-AA2C-62568BD96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EF93-70B4-4374-BED9-3CE81E04E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8A36-4B01-4366-A4AE-57C3AA37E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3BB8-EEF5-4356-93F0-F7028EEF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400" spc="-1" strike="noStrike">
                <a:solidFill>
                  <a:srgbClr val="d1282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80B2F-AB49-4770-B978-977EC48D9F88}" type="slidenum">
              <a:rPr b="1" lang="en-GB" sz="2400" spc="-1" strike="noStrike">
                <a:solidFill>
                  <a:srgbClr val="d1282e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9F141-F3F3-42B4-B093-E35D1FACEE95}" type="slidenum"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5CCA3-95B7-49A8-A56E-47B810F49D9D}" type="slidenum"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0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google.co.uk/imgres?imgurl=http://www.prs.heacademy.ac.uk/images/news.jpg&amp;imgrefurl=http://www.prs.heacademy.ac.uk/news/&amp;usg=__66etgdCQMZZdiTBuSt_TbYuMejQ=&amp;h=454&amp;w=454&amp;sz=55&amp;hl=en&amp;start=1&amp;zoom=1&amp;itbs=1&amp;tbnid=pCzlr53nR2eaAM:&amp;tbnh=128&amp;tbnw=128&amp;prev=/images%3Fq%3Dnews%26hl%3Den%26gbv%3D2%26tbs%3Disch:1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www.google.co.uk/imgres?imgurl=http://bnb.bpweb.net/N24/BBC%2520NEWS%252024_20060310-165413__0001.jpg&amp;imgrefurl=http://www.ukfree.tv/showchannel.php%3Fid%3DN24&amp;usg=__7rFKNVIITZoQSwpMevirxamb2Mw=&amp;h=576&amp;w=1024&amp;sz=109&amp;hl=en&amp;start=2&amp;zoom=1&amp;itbs=1&amp;tbnid=ttcjoNF28OO14M:&amp;tbnh=84&amp;tbnw=150&amp;prev=/images%3Fq%3DTV%2Bnews%2BBBC%26hl%3Den%26gbv%3D2%26tbs%3Disch:1" TargetMode="External"/><Relationship Id="rId4" Type="http://schemas.openxmlformats.org/officeDocument/2006/relationships/image" Target="../media/image19.jpeg"/><Relationship Id="rId5" Type="http://schemas.openxmlformats.org/officeDocument/2006/relationships/hyperlink" Target="http://www.google.co.uk/imgres?imgurl=http://difference.blogs.glam.ac.uk/files/2010/03/JonSpaceHoppers2.jpg&amp;imgrefurl=http://difference.blogs.glam.ac.uk/&amp;usg=__LQtvGcYg0WzkG4ZbkhtvX9dAKbY=&amp;h=637&amp;w=485&amp;sz=277&amp;hl=en&amp;start=17&amp;zoom=1&amp;itbs=1&amp;tbnid=D4pWy1WgHg0T7M:&amp;tbnh=137&amp;tbnw=104&amp;prev=/images%3Fq%3Dscience%2Btv%2Bprogramme%26hl%3Den%26gbv%3D2%26tbs%3Disch:1" TargetMode="External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google.co.uk/imgres?imgurl=http://blog.usaseopros.com/wp-content/uploads/2009/08/water-cooler-gossip.jpg&amp;imgrefurl=http://blog.usaseopros.com/tag/twitter/&amp;usg=__My0Uy_EqfGAuVljsRitHeRoYX3k=&amp;h=255&amp;w=240&amp;sz=16&amp;hl=en&amp;start=5&amp;zoom=1&amp;itbs=1&amp;tbnid=zRhhPkuRN6bREM:&amp;tbnh=111&amp;tbnw=104&amp;prev=/images%3Fq%3Dwater%2Bcooler%2Bgossip%26hl%3Den%26gbv%3D2%26tbs%3Disch:1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www.google.co.uk/imgres?imgurl=http://www.comedy.co.uk/images/library/people/300/i/inbetweeners_interview4.jpg&amp;imgrefurl=http://www.comedy.co.uk/news/story/00000350/simon_bird_may_quit_the_inbetweners/&amp;usg=__5GMBRIsCtXxCQx6TgSOJOfaVHOo=&amp;h=400&amp;w=300&amp;sz=39&amp;hl=en&amp;start=8&amp;zoom=1&amp;itbs=1&amp;tbnid=Ac4jqzISHooP_M:&amp;tbnh=124&amp;tbnw=93&amp;prev=/images%3Fq%3Dinbetweeners%26hl%3Den%26gbv%3D2%26tbs%3Disch:1" TargetMode="External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000000"/>
                </a:solidFill>
                <a:latin typeface="Arial Black"/>
              </a:rPr>
              <a:t>AUDIENCE THEORY</a:t>
            </a:r>
            <a:endParaRPr b="0" lang="en-US" sz="88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48006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d1282e"/>
                </a:solidFill>
                <a:latin typeface="Arial Black"/>
              </a:rPr>
              <a:t>A LEVEL MEDIA STUD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2"/>
          <p:cNvSpPr/>
          <p:nvPr/>
        </p:nvSpPr>
        <p:spPr>
          <a:xfrm>
            <a:off x="155520" y="-433440"/>
            <a:ext cx="22860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1298520" y="5516640"/>
            <a:ext cx="2468520" cy="977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"/>
          <p:cNvPicPr/>
          <p:nvPr/>
        </p:nvPicPr>
        <p:blipFill>
          <a:blip r:embed="rId2"/>
          <a:stretch/>
        </p:blipFill>
        <p:spPr>
          <a:xfrm>
            <a:off x="6443640" y="48690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Box 1"/>
          <p:cNvSpPr/>
          <p:nvPr/>
        </p:nvSpPr>
        <p:spPr>
          <a:xfrm>
            <a:off x="868680" y="571680"/>
            <a:ext cx="77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McDonalds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want</a:t>
            </a:r>
            <a:r>
              <a:rPr b="1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you to think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" descr="http://i18.tinypic.com/8e1g504.jpg"/>
          <p:cNvPicPr/>
          <p:nvPr/>
        </p:nvPicPr>
        <p:blipFill>
          <a:blip r:embed="rId1"/>
          <a:stretch/>
        </p:blipFill>
        <p:spPr>
          <a:xfrm>
            <a:off x="0" y="1711440"/>
            <a:ext cx="9144000" cy="51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1"/>
          <p:cNvSpPr/>
          <p:nvPr/>
        </p:nvSpPr>
        <p:spPr>
          <a:xfrm>
            <a:off x="488520" y="357120"/>
            <a:ext cx="293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You may agr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2"/>
          <p:cNvSpPr/>
          <p:nvPr/>
        </p:nvSpPr>
        <p:spPr>
          <a:xfrm>
            <a:off x="2050200" y="1214280"/>
            <a:ext cx="156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Or..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919440" y="2643120"/>
            <a:ext cx="34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You may disagr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2" descr="http://www.facets.org/images/super%20size%20me.jpg"/>
          <p:cNvPicPr/>
          <p:nvPr/>
        </p:nvPicPr>
        <p:blipFill>
          <a:blip r:embed="rId1"/>
          <a:stretch/>
        </p:blipFill>
        <p:spPr>
          <a:xfrm>
            <a:off x="4619520" y="2333520"/>
            <a:ext cx="452448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Box 1"/>
          <p:cNvSpPr/>
          <p:nvPr/>
        </p:nvSpPr>
        <p:spPr>
          <a:xfrm>
            <a:off x="1407240" y="214200"/>
            <a:ext cx="156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Or..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2"/>
          <p:cNvSpPr/>
          <p:nvPr/>
        </p:nvSpPr>
        <p:spPr>
          <a:xfrm>
            <a:off x="285840" y="1643040"/>
            <a:ext cx="885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You may think that big macs do taste good, but I’ll only have them every now and ag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2" descr="http://www.instablogsimages.com/images/2007/08/01/how-healthy-is-your-fresh-salad-diet_9.jpg"/>
          <p:cNvPicPr/>
          <p:nvPr/>
        </p:nvPicPr>
        <p:blipFill>
          <a:blip r:embed="rId1"/>
          <a:stretch/>
        </p:blipFill>
        <p:spPr>
          <a:xfrm>
            <a:off x="684360" y="342900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http://manhattanoffender.typepad.com/manhattanoffender/images/bigmac2.jpg"/>
          <p:cNvPicPr/>
          <p:nvPr/>
        </p:nvPicPr>
        <p:blipFill>
          <a:blip r:embed="rId2"/>
          <a:stretch/>
        </p:blipFill>
        <p:spPr>
          <a:xfrm>
            <a:off x="5003640" y="3541680"/>
            <a:ext cx="392940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http://www.instablogsimages.com/images/2007/08/01/how-healthy-is-your-fresh-salad-diet_9.jpg"/>
          <p:cNvPicPr/>
          <p:nvPr/>
        </p:nvPicPr>
        <p:blipFill>
          <a:blip r:embed="rId1"/>
          <a:stretch/>
        </p:blipFill>
        <p:spPr>
          <a:xfrm>
            <a:off x="0" y="3929040"/>
            <a:ext cx="2928960" cy="29289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" descr="http://www.facets.org/images/super%20size%20me.jpg"/>
          <p:cNvPicPr/>
          <p:nvPr/>
        </p:nvPicPr>
        <p:blipFill>
          <a:blip r:embed="rId2"/>
          <a:stretch/>
        </p:blipFill>
        <p:spPr>
          <a:xfrm>
            <a:off x="6215040" y="3929040"/>
            <a:ext cx="2928960" cy="29289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" descr="http://johnstamosfever.files.wordpress.com/2009/03/jules-eating-hamburger-pulp-fiction1.jpg"/>
          <p:cNvPicPr/>
          <p:nvPr/>
        </p:nvPicPr>
        <p:blipFill>
          <a:blip r:embed="rId3"/>
          <a:stretch/>
        </p:blipFill>
        <p:spPr>
          <a:xfrm>
            <a:off x="2928960" y="4443480"/>
            <a:ext cx="3214800" cy="2414520"/>
          </a:xfrm>
          <a:prstGeom prst="rect">
            <a:avLst/>
          </a:prstGeom>
          <a:ln w="0">
            <a:noFill/>
          </a:ln>
        </p:spPr>
      </p:pic>
      <p:sp>
        <p:nvSpPr>
          <p:cNvPr id="200" name="TextBox 5"/>
          <p:cNvSpPr/>
          <p:nvPr/>
        </p:nvSpPr>
        <p:spPr>
          <a:xfrm>
            <a:off x="285840" y="1643040"/>
            <a:ext cx="885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So here we have three separate readings of that one adve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Straight Arrow Connector 2"/>
          <p:cNvCxnSpPr/>
          <p:nvPr/>
        </p:nvCxnSpPr>
        <p:spPr>
          <a:xfrm flipH="1">
            <a:off x="1907280" y="2842920"/>
            <a:ext cx="793080" cy="802440"/>
          </a:xfrm>
          <a:prstGeom prst="straightConnector1">
            <a:avLst/>
          </a:prstGeom>
          <a:ln w="12600">
            <a:solidFill>
              <a:srgbClr val="777777"/>
            </a:solidFill>
            <a:miter/>
            <a:tailEnd len="med" type="arrow" w="med"/>
          </a:ln>
        </p:spPr>
      </p:cxnSp>
      <p:cxnSp>
        <p:nvCxnSpPr>
          <p:cNvPr id="202" name="Straight Arrow Connector 4"/>
          <p:cNvCxnSpPr/>
          <p:nvPr/>
        </p:nvCxnSpPr>
        <p:spPr>
          <a:xfrm>
            <a:off x="4284360" y="2636640"/>
            <a:ext cx="430920" cy="1440360"/>
          </a:xfrm>
          <a:prstGeom prst="straightConnector1">
            <a:avLst/>
          </a:prstGeom>
          <a:ln w="12600">
            <a:solidFill>
              <a:srgbClr val="777777"/>
            </a:solidFill>
            <a:miter/>
            <a:tailEnd len="med" type="arrow" w="med"/>
          </a:ln>
        </p:spPr>
      </p:cxnSp>
      <p:cxnSp>
        <p:nvCxnSpPr>
          <p:cNvPr id="203" name="Straight Arrow Connector 6"/>
          <p:cNvCxnSpPr/>
          <p:nvPr/>
        </p:nvCxnSpPr>
        <p:spPr>
          <a:xfrm>
            <a:off x="5867280" y="2492280"/>
            <a:ext cx="1812240" cy="1008720"/>
          </a:xfrm>
          <a:prstGeom prst="straightConnector1">
            <a:avLst/>
          </a:prstGeom>
          <a:ln w="12600">
            <a:solidFill>
              <a:srgbClr val="777777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http://www-images.warwick.ac.uk/fac/cross_fac/prizeforwriting/management/david-morley-colour-high-re.jpg"/>
          <p:cNvPicPr/>
          <p:nvPr/>
        </p:nvPicPr>
        <p:blipFill>
          <a:blip r:embed="rId1"/>
          <a:stretch/>
        </p:blipFill>
        <p:spPr>
          <a:xfrm>
            <a:off x="0" y="0"/>
            <a:ext cx="2286000" cy="3184560"/>
          </a:xfrm>
          <a:prstGeom prst="rect">
            <a:avLst/>
          </a:prstGeom>
          <a:ln w="0">
            <a:noFill/>
          </a:ln>
        </p:spPr>
      </p:pic>
      <p:sp>
        <p:nvSpPr>
          <p:cNvPr id="205" name="Rounded Rectangular Callout 2"/>
          <p:cNvSpPr/>
          <p:nvPr/>
        </p:nvSpPr>
        <p:spPr>
          <a:xfrm>
            <a:off x="2786040" y="0"/>
            <a:ext cx="6357960" cy="3933720"/>
          </a:xfrm>
          <a:prstGeom prst="wedgeRoundRectCallout">
            <a:avLst>
              <a:gd name="adj1" fmla="val -67703"/>
              <a:gd name="adj2" fmla="val 2624"/>
              <a:gd name="adj3" fmla="val 16667"/>
            </a:avLst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In 1980 David Morley did a study of audience responses when watching the BBC TV show </a:t>
            </a:r>
            <a:r>
              <a:rPr b="0" i="1" lang="en-GB" sz="3200" spc="-1" strike="noStrike">
                <a:solidFill>
                  <a:srgbClr val="ffffff"/>
                </a:solidFill>
                <a:latin typeface="Calibri"/>
              </a:rPr>
              <a:t>Spotlight. 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As a result of his research, he decided that audiences tend to fall into three groups based on their interpretation of the text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3"/>
          <p:cNvSpPr/>
          <p:nvPr/>
        </p:nvSpPr>
        <p:spPr>
          <a:xfrm>
            <a:off x="4320" y="3860640"/>
            <a:ext cx="321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Preferred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7"/>
          <p:cNvSpPr/>
          <p:nvPr/>
        </p:nvSpPr>
        <p:spPr>
          <a:xfrm>
            <a:off x="2565360" y="4941720"/>
            <a:ext cx="34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Negotiated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8"/>
          <p:cNvSpPr/>
          <p:nvPr/>
        </p:nvSpPr>
        <p:spPr>
          <a:xfrm>
            <a:off x="5409360" y="5950080"/>
            <a:ext cx="377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Oppositional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http://www-images.warwick.ac.uk/fac/cross_fac/prizeforwriting/management/david-morley-colour-high-re.jpg"/>
          <p:cNvPicPr/>
          <p:nvPr/>
        </p:nvPicPr>
        <p:blipFill>
          <a:blip r:embed="rId1"/>
          <a:stretch/>
        </p:blipFill>
        <p:spPr>
          <a:xfrm>
            <a:off x="0" y="0"/>
            <a:ext cx="2286000" cy="3184560"/>
          </a:xfrm>
          <a:prstGeom prst="rect">
            <a:avLst/>
          </a:prstGeom>
          <a:ln w="0">
            <a:noFill/>
          </a:ln>
        </p:spPr>
      </p:pic>
      <p:sp>
        <p:nvSpPr>
          <p:cNvPr id="210" name="Rounded Rectangular Callout 2"/>
          <p:cNvSpPr/>
          <p:nvPr/>
        </p:nvSpPr>
        <p:spPr>
          <a:xfrm>
            <a:off x="2786040" y="428760"/>
            <a:ext cx="3500640" cy="2571480"/>
          </a:xfrm>
          <a:prstGeom prst="wedgeRoundRectCallout">
            <a:avLst>
              <a:gd name="adj1" fmla="val -78509"/>
              <a:gd name="adj2" fmla="val 3648"/>
              <a:gd name="adj3" fmla="val 16667"/>
            </a:avLst>
          </a:prstGeom>
          <a:solidFill>
            <a:srgbClr val="00b0f0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preferred reading is the reading media producers hope audiences will take from the tex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2" descr="http://i18.tinypic.com/8e1g504.jpg"/>
          <p:cNvPicPr/>
          <p:nvPr/>
        </p:nvPicPr>
        <p:blipFill>
          <a:blip r:embed="rId2"/>
          <a:stretch/>
        </p:blipFill>
        <p:spPr>
          <a:xfrm>
            <a:off x="1428840" y="3359160"/>
            <a:ext cx="621504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http://www-images.warwick.ac.uk/fac/cross_fac/prizeforwriting/management/david-morley-colour-high-re.jpg"/>
          <p:cNvPicPr/>
          <p:nvPr/>
        </p:nvPicPr>
        <p:blipFill>
          <a:blip r:embed="rId1"/>
          <a:stretch/>
        </p:blipFill>
        <p:spPr>
          <a:xfrm>
            <a:off x="0" y="0"/>
            <a:ext cx="2286000" cy="3184560"/>
          </a:xfrm>
          <a:prstGeom prst="rect">
            <a:avLst/>
          </a:prstGeom>
          <a:ln w="0">
            <a:noFill/>
          </a:ln>
        </p:spPr>
      </p:pic>
      <p:sp>
        <p:nvSpPr>
          <p:cNvPr id="213" name="Rounded Rectangular Callout 2"/>
          <p:cNvSpPr/>
          <p:nvPr/>
        </p:nvSpPr>
        <p:spPr>
          <a:xfrm>
            <a:off x="2786040" y="428760"/>
            <a:ext cx="4500720" cy="2571480"/>
          </a:xfrm>
          <a:prstGeom prst="wedgeRoundRectCallout">
            <a:avLst>
              <a:gd name="adj1" fmla="val -78509"/>
              <a:gd name="adj2" fmla="val 3648"/>
              <a:gd name="adj3" fmla="val 16667"/>
            </a:avLst>
          </a:prstGeom>
          <a:solidFill>
            <a:srgbClr val="00b0f0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udience members from outside the target audience may reject the preferred read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ceiving their own alternative mess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3" descr="http://www.facets.org/images/super%20size%20me.jpg"/>
          <p:cNvPicPr/>
          <p:nvPr/>
        </p:nvPicPr>
        <p:blipFill>
          <a:blip r:embed="rId2"/>
          <a:stretch/>
        </p:blipFill>
        <p:spPr>
          <a:xfrm>
            <a:off x="2857680" y="3143160"/>
            <a:ext cx="37144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http://www-images.warwick.ac.uk/fac/cross_fac/prizeforwriting/management/david-morley-colour-high-re.jpg"/>
          <p:cNvPicPr/>
          <p:nvPr/>
        </p:nvPicPr>
        <p:blipFill>
          <a:blip r:embed="rId1"/>
          <a:stretch/>
        </p:blipFill>
        <p:spPr>
          <a:xfrm>
            <a:off x="0" y="0"/>
            <a:ext cx="2286000" cy="3184560"/>
          </a:xfrm>
          <a:prstGeom prst="rect">
            <a:avLst/>
          </a:prstGeom>
          <a:ln w="0">
            <a:noFill/>
          </a:ln>
        </p:spPr>
      </p:pic>
      <p:sp>
        <p:nvSpPr>
          <p:cNvPr id="216" name="Rounded Rectangular Callout 2"/>
          <p:cNvSpPr/>
          <p:nvPr/>
        </p:nvSpPr>
        <p:spPr>
          <a:xfrm>
            <a:off x="2786040" y="428760"/>
            <a:ext cx="4500720" cy="2571480"/>
          </a:xfrm>
          <a:prstGeom prst="wedgeRoundRectCallout">
            <a:avLst>
              <a:gd name="adj1" fmla="val -78509"/>
              <a:gd name="adj2" fmla="val 3648"/>
              <a:gd name="adj3" fmla="val 16667"/>
            </a:avLst>
          </a:prstGeom>
          <a:solidFill>
            <a:srgbClr val="00b0f0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gotiated reading is when audiences acknowledge the preferred reading, but modify it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uit their own values and opin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2" descr="http://www.instablogsimages.com/images/2007/08/01/how-healthy-is-your-fresh-salad-diet_9.jpg"/>
          <p:cNvPicPr/>
          <p:nvPr/>
        </p:nvPicPr>
        <p:blipFill>
          <a:blip r:embed="rId2"/>
          <a:stretch/>
        </p:blipFill>
        <p:spPr>
          <a:xfrm>
            <a:off x="0" y="342900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http://manhattanoffender.typepad.com/manhattanoffender/images/bigmac2.jpg"/>
          <p:cNvPicPr/>
          <p:nvPr/>
        </p:nvPicPr>
        <p:blipFill>
          <a:blip r:embed="rId3"/>
          <a:stretch/>
        </p:blipFill>
        <p:spPr>
          <a:xfrm>
            <a:off x="5214960" y="3541680"/>
            <a:ext cx="392904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5" descr="coke-launches-new-advert-for-zero-lrg"/>
          <p:cNvPicPr/>
          <p:nvPr/>
        </p:nvPicPr>
        <p:blipFill>
          <a:blip r:embed="rId1"/>
          <a:stretch/>
        </p:blipFill>
        <p:spPr>
          <a:xfrm>
            <a:off x="0" y="320760"/>
            <a:ext cx="6877080" cy="634212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6"/>
          <p:cNvSpPr/>
          <p:nvPr/>
        </p:nvSpPr>
        <p:spPr>
          <a:xfrm>
            <a:off x="6948360" y="1557360"/>
            <a:ext cx="2195640" cy="31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hat is the PREFERRED read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NEGOCIATED read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OPPOSITIONAL reading?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d1282e"/>
                </a:solidFill>
                <a:latin typeface="Arial Black"/>
              </a:rPr>
              <a:t>ACTIVE AUDIENCES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6840" y="1752120"/>
            <a:ext cx="7620120" cy="48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 u="sng">
                <a:solidFill>
                  <a:srgbClr val="000000"/>
                </a:solidFill>
                <a:uFillTx/>
                <a:latin typeface="Arial"/>
              </a:rPr>
              <a:t>The Uses and Gratifications Theory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88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Georgia"/>
              </a:rPr>
              <a:t>The audience has a set of needs (Blumler and Katz 1975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88"/>
              </a:spcBef>
              <a:spcAft>
                <a:spcPts val="601"/>
              </a:spcAft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Georgia"/>
              </a:rPr>
              <a:t>Diversion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88"/>
              </a:spcBef>
              <a:spcAft>
                <a:spcPts val="601"/>
              </a:spcAft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Georgia"/>
              </a:rPr>
              <a:t>Integration &amp; Social Interaction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88"/>
              </a:spcBef>
              <a:spcAft>
                <a:spcPts val="601"/>
              </a:spcAft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Georgia"/>
              </a:rPr>
              <a:t>Personal identity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88"/>
              </a:spcBef>
              <a:spcAft>
                <a:spcPts val="601"/>
              </a:spcAft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Georgia"/>
              </a:rPr>
              <a:t>Surveillance/Information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We use the media to gratify our needs.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We actively seek out media products that we really want.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Links with liberal-pluralist perspectives (consumers hold the power over producers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88"/>
              </a:spcBef>
              <a:spcAft>
                <a:spcPts val="601"/>
              </a:spcAft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5805360" y="285264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7880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d1282e"/>
                </a:solidFill>
                <a:latin typeface="Arial Black"/>
              </a:rPr>
              <a:t>MOST AUDIENCE THEORY FOCUSES ON TWO QUESTIONS..</a:t>
            </a:r>
            <a:br>
              <a:rPr sz="3200"/>
            </a:b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6840" y="1483920"/>
            <a:ext cx="76201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ow powerful are the media in influencing the ideas and behaviour of the audience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nd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ow does the media shape an audience’s perception of the world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udience theories suggest that representations are open to different interpretations and that their meanings are not fixe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2879640" y="2251080"/>
            <a:ext cx="3460680" cy="2592360"/>
          </a:xfrm>
          <a:prstGeom prst="rect">
            <a:avLst/>
          </a:prstGeom>
          <a:ln w="0">
            <a:noFill/>
          </a:ln>
        </p:spPr>
      </p:pic>
      <p:sp>
        <p:nvSpPr>
          <p:cNvPr id="225" name="TextBox 3"/>
          <p:cNvSpPr/>
          <p:nvPr/>
        </p:nvSpPr>
        <p:spPr>
          <a:xfrm>
            <a:off x="611280" y="476280"/>
            <a:ext cx="45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ronation Street viewers are individuals who are motivated by different impul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"/>
          <p:cNvSpPr/>
          <p:nvPr/>
        </p:nvSpPr>
        <p:spPr>
          <a:xfrm>
            <a:off x="6659640" y="1400040"/>
            <a:ext cx="14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 need for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5"/>
          <p:cNvSpPr/>
          <p:nvPr/>
        </p:nvSpPr>
        <p:spPr>
          <a:xfrm>
            <a:off x="7093080" y="2946240"/>
            <a:ext cx="122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need to be part of a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6"/>
          <p:cNvSpPr/>
          <p:nvPr/>
        </p:nvSpPr>
        <p:spPr>
          <a:xfrm>
            <a:off x="6875640" y="5084640"/>
            <a:ext cx="158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need to identify with characters and scen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7"/>
          <p:cNvSpPr/>
          <p:nvPr/>
        </p:nvSpPr>
        <p:spPr>
          <a:xfrm>
            <a:off x="1309680" y="580716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laxat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8"/>
          <p:cNvSpPr/>
          <p:nvPr/>
        </p:nvSpPr>
        <p:spPr>
          <a:xfrm>
            <a:off x="3635280" y="5421240"/>
            <a:ext cx="23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need for structure and order – offers a reassuring rout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9"/>
          <p:cNvSpPr/>
          <p:nvPr/>
        </p:nvSpPr>
        <p:spPr>
          <a:xfrm>
            <a:off x="250920" y="2708280"/>
            <a:ext cx="223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 combat loneliness – allows audience to perceive themselves to be part of an IMAGINED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2" name="Straight Arrow Connector 11"/>
          <p:cNvCxnSpPr/>
          <p:nvPr/>
        </p:nvCxnSpPr>
        <p:spPr>
          <a:xfrm flipH="1">
            <a:off x="1186920" y="1557360"/>
            <a:ext cx="432720" cy="792720"/>
          </a:xfrm>
          <a:prstGeom prst="straightConnector1">
            <a:avLst/>
          </a:prstGeom>
          <a:ln w="12600">
            <a:solidFill>
              <a:srgbClr val="777777"/>
            </a:solidFill>
            <a:miter/>
            <a:tailEnd len="med" type="arrow" w="med"/>
          </a:ln>
        </p:spPr>
      </p:cxnSp>
      <p:cxnSp>
        <p:nvCxnSpPr>
          <p:cNvPr id="233" name="Straight Arrow Connector 13"/>
          <p:cNvCxnSpPr/>
          <p:nvPr/>
        </p:nvCxnSpPr>
        <p:spPr>
          <a:xfrm>
            <a:off x="1618920" y="1557000"/>
            <a:ext cx="3817080" cy="1080"/>
          </a:xfrm>
          <a:prstGeom prst="straightConnector1">
            <a:avLst/>
          </a:prstGeom>
          <a:ln w="12600">
            <a:solidFill>
              <a:srgbClr val="777777"/>
            </a:solidFill>
            <a:miter/>
            <a:tailEnd len="med" type="arrow" w="med"/>
          </a:ln>
        </p:spPr>
      </p:cxnSp>
      <p:cxnSp>
        <p:nvCxnSpPr>
          <p:cNvPr id="234" name="Straight Arrow Connector 15"/>
          <p:cNvCxnSpPr/>
          <p:nvPr/>
        </p:nvCxnSpPr>
        <p:spPr>
          <a:xfrm>
            <a:off x="1619280" y="1557000"/>
            <a:ext cx="721440" cy="694440"/>
          </a:xfrm>
          <a:prstGeom prst="straightConnector1">
            <a:avLst/>
          </a:prstGeom>
          <a:ln w="12600">
            <a:solidFill>
              <a:srgbClr val="777777"/>
            </a:solidFill>
            <a:miter/>
            <a:tailEnd len="med" type="arrow" w="med"/>
          </a:ln>
        </p:spPr>
      </p:cxnSp>
      <p:cxnSp>
        <p:nvCxnSpPr>
          <p:cNvPr id="235" name="Straight Arrow Connector 17"/>
          <p:cNvCxnSpPr/>
          <p:nvPr/>
        </p:nvCxnSpPr>
        <p:spPr>
          <a:xfrm>
            <a:off x="1618920" y="1557000"/>
            <a:ext cx="1080" cy="1151640"/>
          </a:xfrm>
          <a:prstGeom prst="straightConnector1">
            <a:avLst/>
          </a:prstGeom>
          <a:ln w="12600">
            <a:solidFill>
              <a:srgbClr val="777777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87392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d1282e"/>
                </a:solidFill>
                <a:latin typeface="Arial Black"/>
              </a:rPr>
              <a:t>USES AND GRATIFICATIONS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1) SURVEILLANCE/INFORM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e want to find out about society and the worl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5" descr="new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414972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7" descr="BBC%2520NEWS%252024_20060310-165413__000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635280" y="4365720"/>
            <a:ext cx="2227320" cy="12477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9" descr="JonSpaceHoppers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910560" y="4005360"/>
            <a:ext cx="142056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d1282e"/>
                </a:solidFill>
                <a:latin typeface="Arial Black"/>
              </a:rPr>
              <a:t>     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70000"/>
              </a:lnSpc>
              <a:spcBef>
                <a:spcPts val="6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2) INTEGRATION &amp; SOCIAL INTERAC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6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6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Companionship through identification with television charact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6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6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We want to find out more about the circumstances of other people so we can empathise/sympathise with the lives of others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6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6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Sociability through discussion about television with other people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5" descr="water-cooler-gossi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53320" y="0"/>
            <a:ext cx="1390680" cy="14842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inbetweeners_interview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111456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d1282e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3) PERSONAL IDENT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inding reinforcement for personal valu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dentifying with a valued other in the medi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aining insight into one’s self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"/>
          <p:cNvSpPr/>
          <p:nvPr/>
        </p:nvSpPr>
        <p:spPr>
          <a:xfrm>
            <a:off x="755640" y="47628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USES AND GRATIF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2" descr=""/>
          <p:cNvPicPr/>
          <p:nvPr/>
        </p:nvPicPr>
        <p:blipFill>
          <a:blip r:embed="rId1"/>
          <a:stretch/>
        </p:blipFill>
        <p:spPr>
          <a:xfrm>
            <a:off x="6875640" y="4221000"/>
            <a:ext cx="190476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d1282e"/>
                </a:solidFill>
                <a:latin typeface="Arial Black"/>
              </a:rPr>
              <a:t>GRATIFICATION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4) DIVER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e use the media for enjoyment, relaxation or just to fill tim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5" descr="jeff-stelling-v1"/>
          <p:cNvPicPr/>
          <p:nvPr/>
        </p:nvPicPr>
        <p:blipFill>
          <a:blip r:embed="rId1"/>
          <a:stretch/>
        </p:blipFill>
        <p:spPr>
          <a:xfrm>
            <a:off x="5580000" y="4221000"/>
            <a:ext cx="2376720" cy="14288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7" descr="1"/>
          <p:cNvPicPr/>
          <p:nvPr/>
        </p:nvPicPr>
        <p:blipFill>
          <a:blip r:embed="rId2"/>
          <a:stretch/>
        </p:blipFill>
        <p:spPr>
          <a:xfrm>
            <a:off x="1258920" y="4221000"/>
            <a:ext cx="23763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31" descr=""/>
          <p:cNvPicPr/>
          <p:nvPr/>
        </p:nvPicPr>
        <p:blipFill>
          <a:blip r:embed="rId1"/>
          <a:stretch/>
        </p:blipFill>
        <p:spPr>
          <a:xfrm>
            <a:off x="604800" y="439560"/>
            <a:ext cx="7135920" cy="5293080"/>
          </a:xfrm>
          <a:prstGeom prst="rect">
            <a:avLst/>
          </a:prstGeom>
          <a:ln w="0">
            <a:noFill/>
          </a:ln>
        </p:spPr>
      </p:pic>
      <p:sp>
        <p:nvSpPr>
          <p:cNvPr id="254" name="TextBox 7"/>
          <p:cNvSpPr/>
          <p:nvPr/>
        </p:nvSpPr>
        <p:spPr>
          <a:xfrm>
            <a:off x="468360" y="602784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at uses and gratifications do the above offer their audienc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93116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d1282e"/>
                </a:solidFill>
                <a:latin typeface="Arial Black"/>
              </a:rPr>
              <a:t>NEW MEDIA – THE INTERNE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329256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 Black"/>
              </a:rPr>
              <a:t>UTOP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23640" y="2276280"/>
            <a:ext cx="3290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The internet user is savvy, well informed and creativ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Distinctions between production and reception are blurr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Online communities allow audiences to interact with each other and produc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Active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32000" y="1196640"/>
            <a:ext cx="329076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 Black"/>
              </a:rPr>
              <a:t>DYSTOP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427640" y="2276640"/>
            <a:ext cx="4248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udies of internet users have shown an unequal distribution in terms of gender, age, ethnicity and social clas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re are increasing levels of corporate domination – big companies exploit  the potential for making money from user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evels of control and surveillance inhibit the autonomy and creativity once associated with the interne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d1282e"/>
                </a:solidFill>
                <a:latin typeface="Arial Black"/>
              </a:rPr>
              <a:t>CONSUMPTION OF MEDIA</a:t>
            </a: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There are different ways of consuming media texts…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 u="sng">
                <a:solidFill>
                  <a:srgbClr val="000000"/>
                </a:solidFill>
                <a:uFillTx/>
                <a:latin typeface="Arial"/>
              </a:rPr>
              <a:t>Primary media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(texts demand close and concentrated attention from audience, eg. Films in cinemas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 u="sng">
                <a:solidFill>
                  <a:srgbClr val="000000"/>
                </a:solidFill>
                <a:uFillTx/>
                <a:latin typeface="Arial"/>
              </a:rPr>
              <a:t>Secondary media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(texts provide a background for an audience who are often doing something else at the same time and are distracted, eg. Radio and some TV programmes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 u="sng">
                <a:solidFill>
                  <a:srgbClr val="000000"/>
                </a:solidFill>
                <a:uFillTx/>
                <a:latin typeface="Arial"/>
              </a:rPr>
              <a:t>Tertiary media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(texts that are consumed by audiences who are almost unaware of their own engagement with the media, eg. Advertising or radio stations broadcasting in shops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3"/>
          <p:cNvSpPr/>
          <p:nvPr/>
        </p:nvSpPr>
        <p:spPr>
          <a:xfrm>
            <a:off x="1285920" y="2352600"/>
            <a:ext cx="2808360" cy="259236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Market-Liberalism Perspec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4643280" y="2352600"/>
            <a:ext cx="2882880" cy="27320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Political-Economy Perspec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5"/>
          <p:cNvSpPr/>
          <p:nvPr/>
        </p:nvSpPr>
        <p:spPr>
          <a:xfrm>
            <a:off x="1547640" y="476280"/>
            <a:ext cx="18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resses power of AUDIENCE over media produc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6"/>
          <p:cNvSpPr/>
          <p:nvPr/>
        </p:nvSpPr>
        <p:spPr>
          <a:xfrm>
            <a:off x="971640" y="5356080"/>
            <a:ext cx="23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udience preference decides what media texts are produ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135000" y="2444760"/>
            <a:ext cx="115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udience research and pre-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8"/>
          <p:cNvSpPr/>
          <p:nvPr/>
        </p:nvSpPr>
        <p:spPr>
          <a:xfrm>
            <a:off x="5724360" y="519120"/>
            <a:ext cx="22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resses the power of PRODUCERS over media aud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9"/>
          <p:cNvSpPr/>
          <p:nvPr/>
        </p:nvSpPr>
        <p:spPr>
          <a:xfrm>
            <a:off x="4270320" y="282600"/>
            <a:ext cx="216000" cy="6313320"/>
          </a:xfrm>
          <a:prstGeom prst="rect">
            <a:avLst/>
          </a:prstGeom>
          <a:solidFill>
            <a:srgbClr val="ff0000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0"/>
          <p:cNvSpPr/>
          <p:nvPr/>
        </p:nvSpPr>
        <p:spPr>
          <a:xfrm>
            <a:off x="7664400" y="2571840"/>
            <a:ext cx="1303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dia is produced to appeal to adverti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1"/>
          <p:cNvSpPr/>
          <p:nvPr/>
        </p:nvSpPr>
        <p:spPr>
          <a:xfrm>
            <a:off x="5810400" y="5356080"/>
            <a:ext cx="250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power of media organisations are open to abuse - promoting political parties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3"/>
          <p:cNvSpPr/>
          <p:nvPr/>
        </p:nvSpPr>
        <p:spPr>
          <a:xfrm>
            <a:off x="241200" y="317520"/>
            <a:ext cx="2232000" cy="1728720"/>
          </a:xfrm>
          <a:prstGeom prst="rect">
            <a:avLst/>
          </a:prstGeom>
          <a:solidFill>
            <a:srgbClr val="ff0000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HYPODERMIC NEEDL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5003640" y="928800"/>
            <a:ext cx="2160720" cy="16556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WO STEP FLOW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5651640" y="4140360"/>
            <a:ext cx="2305080" cy="1726920"/>
          </a:xfrm>
          <a:prstGeom prst="rect">
            <a:avLst/>
          </a:prstGeom>
          <a:solidFill>
            <a:srgbClr val="ff0000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SES AND GRATIFICATIONS 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1290600" y="4637160"/>
            <a:ext cx="2664000" cy="16556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RECEPTION 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7"/>
          <p:cNvSpPr/>
          <p:nvPr/>
        </p:nvSpPr>
        <p:spPr>
          <a:xfrm>
            <a:off x="233280" y="2349360"/>
            <a:ext cx="13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ing from 1920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8"/>
          <p:cNvSpPr/>
          <p:nvPr/>
        </p:nvSpPr>
        <p:spPr>
          <a:xfrm>
            <a:off x="1908000" y="2349360"/>
            <a:ext cx="22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ssive aud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9"/>
          <p:cNvSpPr/>
          <p:nvPr/>
        </p:nvSpPr>
        <p:spPr>
          <a:xfrm>
            <a:off x="2771640" y="2001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formation is unmedi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traight Connector 11"/>
          <p:cNvSpPr/>
          <p:nvPr/>
        </p:nvSpPr>
        <p:spPr>
          <a:xfrm flipV="1">
            <a:off x="539640" y="2046240"/>
            <a:ext cx="144720" cy="303120"/>
          </a:xfrm>
          <a:prstGeom prst="line">
            <a:avLst/>
          </a:prstGeom>
          <a:ln w="1260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3"/>
          <p:cNvSpPr/>
          <p:nvPr/>
        </p:nvSpPr>
        <p:spPr>
          <a:xfrm>
            <a:off x="1908000" y="2046240"/>
            <a:ext cx="565200" cy="303120"/>
          </a:xfrm>
          <a:prstGeom prst="line">
            <a:avLst/>
          </a:prstGeom>
          <a:ln w="1260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5"/>
          <p:cNvSpPr/>
          <p:nvPr/>
        </p:nvSpPr>
        <p:spPr>
          <a:xfrm flipV="1">
            <a:off x="2473200" y="317160"/>
            <a:ext cx="298440" cy="206280"/>
          </a:xfrm>
          <a:prstGeom prst="line">
            <a:avLst/>
          </a:prstGeom>
          <a:ln w="1260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ight Arrow 16"/>
          <p:cNvSpPr/>
          <p:nvPr/>
        </p:nvSpPr>
        <p:spPr>
          <a:xfrm rot="982200">
            <a:off x="3200400" y="1363680"/>
            <a:ext cx="1247760" cy="504720"/>
          </a:xfrm>
          <a:prstGeom prst="rightArrow">
            <a:avLst>
              <a:gd name="adj1" fmla="val 66491"/>
              <a:gd name="adj2" fmla="val 49959"/>
            </a:avLst>
          </a:prstGeom>
          <a:solidFill>
            <a:srgbClr val="00b050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Down Arrow 18"/>
          <p:cNvSpPr/>
          <p:nvPr/>
        </p:nvSpPr>
        <p:spPr>
          <a:xfrm rot="486000">
            <a:off x="6566040" y="2949480"/>
            <a:ext cx="431640" cy="1027080"/>
          </a:xfrm>
          <a:prstGeom prst="downArrow">
            <a:avLst>
              <a:gd name="adj1" fmla="val 74491"/>
              <a:gd name="adj2" fmla="val 44648"/>
            </a:avLst>
          </a:prstGeom>
          <a:solidFill>
            <a:srgbClr val="00b050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eft Arrow 19"/>
          <p:cNvSpPr/>
          <p:nvPr/>
        </p:nvSpPr>
        <p:spPr>
          <a:xfrm>
            <a:off x="4081320" y="5234040"/>
            <a:ext cx="1152720" cy="485640"/>
          </a:xfrm>
          <a:prstGeom prst="leftArrow">
            <a:avLst>
              <a:gd name="adj1" fmla="val 50000"/>
              <a:gd name="adj2" fmla="val 49978"/>
            </a:avLst>
          </a:prstGeom>
          <a:solidFill>
            <a:srgbClr val="00b050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784080" y="1614600"/>
            <a:ext cx="1092240" cy="431640"/>
          </a:xfrm>
          <a:prstGeom prst="rect">
            <a:avLst/>
          </a:prstGeom>
          <a:ln w="0">
            <a:noFill/>
          </a:ln>
        </p:spPr>
      </p:pic>
      <p:sp>
        <p:nvSpPr>
          <p:cNvPr id="161" name="TextBox 20"/>
          <p:cNvSpPr/>
          <p:nvPr/>
        </p:nvSpPr>
        <p:spPr>
          <a:xfrm>
            <a:off x="7534440" y="316080"/>
            <a:ext cx="1223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so called the ‘limited effects paradigm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21"/>
          <p:cNvSpPr/>
          <p:nvPr/>
        </p:nvSpPr>
        <p:spPr>
          <a:xfrm>
            <a:off x="3419640" y="2924280"/>
            <a:ext cx="230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cial effects are important in the way audiences consume tex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traight Connector 23"/>
          <p:cNvSpPr/>
          <p:nvPr/>
        </p:nvSpPr>
        <p:spPr>
          <a:xfrm flipV="1">
            <a:off x="4572000" y="2197080"/>
            <a:ext cx="431640" cy="727200"/>
          </a:xfrm>
          <a:prstGeom prst="line">
            <a:avLst/>
          </a:prstGeom>
          <a:ln w="1260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traight Connector 25"/>
          <p:cNvSpPr/>
          <p:nvPr/>
        </p:nvSpPr>
        <p:spPr>
          <a:xfrm flipV="1">
            <a:off x="7164360" y="847800"/>
            <a:ext cx="287280" cy="350640"/>
          </a:xfrm>
          <a:prstGeom prst="line">
            <a:avLst/>
          </a:prstGeom>
          <a:ln w="1260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26"/>
          <p:cNvSpPr/>
          <p:nvPr/>
        </p:nvSpPr>
        <p:spPr>
          <a:xfrm>
            <a:off x="7421400" y="3463920"/>
            <a:ext cx="144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umler and Katz 19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27"/>
          <p:cNvSpPr/>
          <p:nvPr/>
        </p:nvSpPr>
        <p:spPr>
          <a:xfrm>
            <a:off x="4762440" y="6122880"/>
            <a:ext cx="42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udiences consume texts for different reasons and in different w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traight Connector 29"/>
          <p:cNvSpPr/>
          <p:nvPr/>
        </p:nvSpPr>
        <p:spPr>
          <a:xfrm flipV="1">
            <a:off x="5724360" y="5867280"/>
            <a:ext cx="360360" cy="255600"/>
          </a:xfrm>
          <a:prstGeom prst="line">
            <a:avLst/>
          </a:prstGeom>
          <a:ln w="1260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traight Connector 2047"/>
          <p:cNvSpPr/>
          <p:nvPr/>
        </p:nvSpPr>
        <p:spPr>
          <a:xfrm flipV="1">
            <a:off x="7956720" y="4109760"/>
            <a:ext cx="360360" cy="398520"/>
          </a:xfrm>
          <a:prstGeom prst="line">
            <a:avLst/>
          </a:prstGeom>
          <a:ln w="1260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2048"/>
          <p:cNvSpPr/>
          <p:nvPr/>
        </p:nvSpPr>
        <p:spPr>
          <a:xfrm>
            <a:off x="233280" y="3786120"/>
            <a:ext cx="223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uart Hall’s Encoding/Decoding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2050"/>
          <p:cNvSpPr/>
          <p:nvPr/>
        </p:nvSpPr>
        <p:spPr>
          <a:xfrm>
            <a:off x="0" y="5234040"/>
            <a:ext cx="135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xts have preferred mea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2052"/>
          <p:cNvSpPr/>
          <p:nvPr/>
        </p:nvSpPr>
        <p:spPr>
          <a:xfrm flipH="1" flipV="1">
            <a:off x="1042920" y="4508280"/>
            <a:ext cx="247680" cy="495000"/>
          </a:xfrm>
          <a:prstGeom prst="line">
            <a:avLst/>
          </a:prstGeom>
          <a:ln w="1260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traight Connector 2054"/>
          <p:cNvSpPr/>
          <p:nvPr/>
        </p:nvSpPr>
        <p:spPr>
          <a:xfrm flipH="1" flipV="1">
            <a:off x="1042920" y="5866920"/>
            <a:ext cx="247680" cy="290520"/>
          </a:xfrm>
          <a:prstGeom prst="line">
            <a:avLst/>
          </a:prstGeom>
          <a:ln w="1260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d1282e"/>
                </a:solidFill>
                <a:latin typeface="Arial Black"/>
              </a:rPr>
              <a:t>PASSIVE AUDIENCES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6840" y="1752480"/>
            <a:ext cx="8218440" cy="47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Effects The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ome commentators see the media as a sinister and insidious forc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Frankfurt School (Adorno and Horkheimer) – a group of Marxist intellectuals developed a critique of the mass media after expressing horror at the success of Nazi Germany propagand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y argued the media had considerable power over the behaviour and beliefs of the audienc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passive audience soak up the empty promises of mass entertainment, becoming willing victims who both produce and consume the products of consumer capitalism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audience are powerless to resist the effects of media messag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7594560" y="90360"/>
            <a:ext cx="1417680" cy="18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85988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d1282e"/>
                </a:solidFill>
                <a:latin typeface="Arial Black"/>
              </a:rPr>
              <a:t>THE TWO STEP FLOW MODEL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6840" y="1557000"/>
            <a:ext cx="762012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Katz and Lazarsfel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ception in which media messages are mediated by others – ‘opinion leaders’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S presidential campaign 194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ur opinion can form or develop based on what others have to sa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mportance of word of mout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6443640" y="4010040"/>
            <a:ext cx="2394000" cy="28479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" descr=""/>
          <p:cNvPicPr/>
          <p:nvPr/>
        </p:nvPicPr>
        <p:blipFill>
          <a:blip r:embed="rId2"/>
          <a:stretch/>
        </p:blipFill>
        <p:spPr>
          <a:xfrm>
            <a:off x="2195640" y="4724280"/>
            <a:ext cx="324000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d1282e"/>
                </a:solidFill>
                <a:latin typeface="Arial Black"/>
              </a:rPr>
              <a:t>ENCODING/DECODING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uart Hall drew upon the Gramscian hegemony theory in developing the encoding/decoding model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e wanted to focus on how dominant ideological messages can be resisted or reinterpreted by audience member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t the encoding stage, the producers of texts create messages (codes) which they expect their viewers/readers to understan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hen the audience come in contact with the text, we decode the messages to create meaning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undamentally, media messages are POLYSEMIC – they contain numerous possible interpretation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owever, we can be steered towards a preferred reading of a tex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7740720" y="115920"/>
            <a:ext cx="1120680" cy="16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http://farm3.static.flickr.com/2110/2515313276_afc444e01c.jpg?v=0"/>
          <p:cNvPicPr/>
          <p:nvPr/>
        </p:nvPicPr>
        <p:blipFill>
          <a:blip r:embed="rId1"/>
          <a:stretch/>
        </p:blipFill>
        <p:spPr>
          <a:xfrm>
            <a:off x="2916360" y="0"/>
            <a:ext cx="5357520" cy="6869160"/>
          </a:xfrm>
          <a:prstGeom prst="rect">
            <a:avLst/>
          </a:prstGeom>
          <a:ln w="0">
            <a:noFill/>
          </a:ln>
        </p:spPr>
      </p:pic>
      <p:sp>
        <p:nvSpPr>
          <p:cNvPr id="184" name="TextBox 1"/>
          <p:cNvSpPr/>
          <p:nvPr/>
        </p:nvSpPr>
        <p:spPr>
          <a:xfrm>
            <a:off x="539640" y="1197000"/>
            <a:ext cx="151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uart H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2"/>
          <p:cNvSpPr/>
          <p:nvPr/>
        </p:nvSpPr>
        <p:spPr>
          <a:xfrm>
            <a:off x="468360" y="2557440"/>
            <a:ext cx="165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eferred, Negotiated and Oppositional readings of media tex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3"/>
          <p:cNvSpPr/>
          <p:nvPr/>
        </p:nvSpPr>
        <p:spPr>
          <a:xfrm>
            <a:off x="684360" y="494172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For exampl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9T14:12:08Z</dcterms:created>
  <dc:creator>Participation</dc:creator>
  <dc:description/>
  <dc:language>en-US</dc:language>
  <cp:lastModifiedBy>Participation</cp:lastModifiedBy>
  <dcterms:modified xsi:type="dcterms:W3CDTF">2011-01-09T17:46:10Z</dcterms:modified>
  <cp:revision>24</cp:revision>
  <dc:subject/>
  <dc:title>Audience Theory</dc:title>
</cp:coreProperties>
</file>